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645-12C9-4650-B5E7-EC902045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A56-5E5B-4F79-A6AE-2EFC430F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C84-9596-4F2E-92F0-3504ADF1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225-70D3-40D7-9F6F-AD1AD91A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1A0C-09ED-4123-A51C-A049EB27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88B2-240C-4A00-973E-B5B9B5C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BFDE-6B4E-46C6-94A0-89DD13E7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BACA-FA21-4034-A20A-89390CF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4FEE-B7BB-4154-BA24-72564A8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1D0E-4A50-4E7B-99A8-EAA815DA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3835-4CCB-45D9-86B8-ABCF5C6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AF1-BAB2-4913-A820-B905E4A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8521-363A-4C2A-B1EE-57E8768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611D-1679-4761-966B-A61D98F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E6CE-7E06-49D4-BA03-D930940B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2B81-E62B-45B6-B9F5-F3755421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B3D5-8E28-47D9-A524-B9F9353F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974-5C0B-43A0-B0D1-EEB4E36F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BFB-B864-4D31-A9DB-9EC1B06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A4F-99DF-4138-A04D-8237DE04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264-7A5E-4F11-8EE6-F0164F74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AFF-74CD-4728-8EC9-EDB0DAC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3BD-7D6C-4F18-948C-CBE0ACD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4B5-28FA-4138-8666-2CF7F46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214D-562E-4934-B46B-B86AD13F50A8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252C-317F-41B3-988A-D2906DC5A303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11:04Z</dcterms:created>
  <dc:creator>Bonnie Ritchey</dc:creator>
  <dc:description/>
  <dc:language>en-US</dc:language>
  <cp:lastModifiedBy>Bonnie Ritchey</cp:lastModifiedBy>
  <dcterms:modified xsi:type="dcterms:W3CDTF">2004-10-24T17:11:2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33</vt:lpwstr>
  </property>
</Properties>
</file>